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E757-FCFF-4C62-9314-7011FC36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82D-59E5-4ED1-ABB2-F82205B3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A174-FEC8-4D75-BC07-CE57025F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7A6F-7732-4E76-9ABD-44AB88EB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7491-C540-45A6-B552-AFC7F53D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79B8-4E3B-4CA1-B018-C334A888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1925-CBE9-4C82-9CA7-3B057C94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8E41-A609-4DAF-A97F-C21F8887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4691-A96D-43F2-8C5E-B9FF0987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E12B-8274-4B97-BC9E-31E25190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957F-B891-4D99-9620-67E7AEED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0B24-055E-43B0-913C-A9E456FB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7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A403-F73A-496E-AEB2-CE3872AA7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7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Preston, Logan, and Make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304920"/>
            <a:ext cx="853416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Stencil"/>
              </a:rPr>
              <a:t>Section 6.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Stencil"/>
              <a:ea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7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cent of quantity increases or decreases from its original amount i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rcent of chan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7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percent of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Find the percent of increase from 4 to 7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: Amount of increase = 7.5 – 4 = 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 of increase = amount of incre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divided by original amount, in mo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simple terms 3.5 over 4 as a f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dividing that you end up with 0.875 = 87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cent of increase from 4 to 7.5 is 87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7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percent of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Find the percent of decrease from 1,500 to 1,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: Amount of decrease = 1,500 – 1,416 = 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 of decrease = amount of decre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divided by original amount, in mo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simple terms 84 over 1,500 as a f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dividing that you end up with 0.056 = 5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cent of decrease is 5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787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for you to tr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percent of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30 to 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50 to 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4 to 4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percent of de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60 to 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180 to 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180 to 1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8:27:39Z</dcterms:created>
  <dc:creator>Student</dc:creator>
  <dc:description/>
  <dc:language>en-US</dc:language>
  <cp:lastModifiedBy>Student</cp:lastModifiedBy>
  <dcterms:modified xsi:type="dcterms:W3CDTF">2010-03-08T19:47:41Z</dcterms:modified>
  <cp:revision>2</cp:revision>
  <dc:subject/>
  <dc:title>Slide 1</dc:title>
</cp:coreProperties>
</file>